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2F2C-CAF1-43AC-929F-4F9E06F1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BAD0-E530-41D7-8291-C5A6ABAD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E928-4328-4729-BEAB-118E5062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9482-F9FD-461B-A8EF-C63AC517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85BE-8BD1-4D53-978E-5B24C617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773A-4F36-4821-93D4-772A53F6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F210-CA25-4618-B974-ABA1848F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5638-511E-462C-A9B5-6FFBDB45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8299-FC58-4CE5-8B53-B7A7F6DD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FC28-F439-41BA-8C99-81668676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2878-8959-4D0D-88DA-83E570A7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DF9F-B2AC-4F16-8122-A04F3AF3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9D87-01A7-4A2E-A7EB-C5FCF506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F909-D6F0-4837-B496-167C8F4F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EA47-0090-4B0B-8247-689187D5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B17A-5886-4915-8B17-B7740D91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8714-F662-4465-BB61-7DC2C340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D8FC-1AA2-4377-A8E2-A94BE557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33D8-4555-4245-8EB6-2F317BC3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0B08E-F66A-413C-926D-DC449DB9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F3C3-E649-4D80-A2FA-E82860F8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DCBD-E157-4863-911E-39381753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4E7DF-0D06-467C-ABBD-F24A52E6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3A10C-66CA-407B-AC60-9DC0957F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9AD6-BC3E-46CA-A436-9F06C37000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1379-D0B5-4ACC-9372-437D1F310A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rystallake.org/images/photos/Collen_vintag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unsite.utk.edu./civil-war/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historyplace.com/civilwar/" TargetMode="External"/><Relationship Id="rId5" Type="http://schemas.openxmlformats.org/officeDocument/2006/relationships/hyperlink" Target="http://www.historyplace.com/civilwar/" TargetMode="External"/><Relationship Id="rId6" Type="http://schemas.openxmlformats.org/officeDocument/2006/relationships/hyperlink" Target="http://www.historyplace.com/civilwar/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ifestyle’s of the Civil War</a:t>
            </a:r>
            <a:br>
              <a:rPr sz="44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oldier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37920" y="5714640"/>
            <a:ext cx="40388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Drake Mummert and Alli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rret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2514600"/>
            <a:ext cx="174960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ygiene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s were wet, muddy, and c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shelters were crude and very unsani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melled from garbage and latr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tle were killed to provide troops with meat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4343400" y="1523880"/>
            <a:ext cx="4343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9036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the camp and soldiers were very di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diers went weeks without showering or even washing their clot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diers and housing eventually became infested with lice and fle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ckness developed from poor hygiene included chronic diarrhea or other intestinal dis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 carrying insects caused many disorders by contaminating water and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back then didn’t know that germs caused dieses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toring techniques were bad and dangerous (they stored all detached limbs in one big pi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ey Point’s to Rememb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diers food selection’s, their housing life, bathing habits, and how they were trained for battl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important because it gives us a background on what they sacrificed for our country and the hardships they had to end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ource's We Us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579132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sunsite.utk.edu./civil-war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www.historyplace.com/civilwar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’s from Goo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be learning about the way civil war soldiers li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h as their diet, hygiene, lodging, training, and their appar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about this gives us more of a feeling of what they over came during the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odg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nteers were sent to camp right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 camps were set up like a sea of canvas 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ts were separated by compan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olider would have to stay in a tent with up to 19 other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5"/>
          <a:stretch/>
        </p:blipFill>
        <p:spPr>
          <a:xfrm>
            <a:off x="4495680" y="2133720"/>
            <a:ext cx="43434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209680" y="2209320"/>
            <a:ext cx="5639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cold in the winter, so instead of tents they stayed in log huts or heavier 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diers got to select their Company offi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rain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ders had set sche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rum awoken them at daw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ad their first drill session after breakfast and roll ca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the day solders performed guard duty if they weren't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diers cut wood for the campfires dug trenches for latrines, and cleaned up the ca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6"/>
          <a:stretch/>
        </p:blipFill>
        <p:spPr>
          <a:xfrm>
            <a:off x="4419720" y="1828800"/>
            <a:ext cx="41907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oth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Recruits are given uniforms and equipment at arri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on were bl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ederates were gray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ere lucky to get the right size uni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diers would trade uniforms to find the best fitting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6"/>
          <a:stretch/>
        </p:blipFill>
        <p:spPr>
          <a:xfrm>
            <a:off x="4343400" y="1600200"/>
            <a:ext cx="457200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69608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thing was of poor quality, shoes were made of imitation l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es fell apart when they got w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pluses of clothing supplies were scarce because one side refused to sell to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tinued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238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on lacked shoes and many  resulting in poor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diers had to march over frozen ground in either no shoes or in bare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battles soldiers took clothing off the dead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soldiers received plenty of food as they arri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 included: beef or salted pork, flour, vegetables, and coff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fighting, rations became scarce an soldiers went hung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4267080" y="1676520"/>
            <a:ext cx="43434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2:05:02Z</dcterms:created>
  <dc:creator>drakedmummert</dc:creator>
  <dc:description/>
  <dc:language>en-US</dc:language>
  <cp:lastModifiedBy>drakedmummert</cp:lastModifiedBy>
  <dcterms:modified xsi:type="dcterms:W3CDTF">2009-03-20T12:14:38Z</dcterms:modified>
  <cp:revision>15</cp:revision>
  <dc:subject/>
  <dc:title>Lifestyle’s of the Civil War Soldier's </dc:title>
</cp:coreProperties>
</file>